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44D-9637-4667-BA04-D2767B22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3AE-961F-4DFF-B3E5-FABA83CA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9E9-02CD-47A0-AB0D-A7FEBE02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ABB-E8D2-48FA-B99A-E4103C3A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1C7-CF5F-4646-B107-E0B2A625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AD4-A020-4556-BCE9-D79E5739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D45-032A-454B-8005-66974EBB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052-8DBC-4BAF-904D-4D929E58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6E6-FCF8-4D6F-BEFA-E207338F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624-A921-4625-8F86-6D1CB76D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516-6E05-435B-9724-14010B53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378-A83B-4C54-9B40-822C3F77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2E46-F7FF-4499-B619-46DFEC06C66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彈琴歌唱讚美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raise H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彈琴歌唱讚美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raise H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彈琴歌唱讚美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raise H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8:56Z</dcterms:created>
  <dc:creator> </dc:creator>
  <dc:description/>
  <dc:language>en-US</dc:language>
  <cp:lastModifiedBy> </cp:lastModifiedBy>
  <dcterms:modified xsi:type="dcterms:W3CDTF">2004-06-16T23:29:03Z</dcterms:modified>
  <cp:revision>1</cp:revision>
  <dc:subject/>
  <dc:title>彈琴歌唱讚美你 &lt;1/3&gt; Praise Him!</dc:title>
</cp:coreProperties>
</file>